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7DF9-1844-46DB-807D-B75EEC2BA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1CD2-05F2-4FC0-B3A8-059FF5899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in groups of 3. What does this help us understand about student wri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B3D5-61F2-418A-9F07-BB3A96324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2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8 min = 10:15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945C-F9A8-48F6-BFDC-FBF05BC86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AB2E-0CCB-4473-AFB8-A59D86EDF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D14F-5BB0-42B2-86BB-D72446B4A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378F-A57B-4608-8854-6BEEAE81A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38B6-49C4-43BF-9EFE-94DF7ACE2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7059-2DFA-4D52-A8B5-85A6E8E324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530C-815D-4282-9948-13E935CE3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9DFF-163D-494D-B2C0-85832EC62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DBF8-7EE1-4B3E-B3BA-04E1BFFF5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C3AA-EDF6-49EA-A08C-2A40285E4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02A4-C976-4A51-B29C-1FC5DC407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E16C-174D-41B1-A3E8-ABFF01669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182F-4D5F-4EAA-BA2E-6F375986C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7125-096F-4314-9842-6D7D30B55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38C1-1049-4A3D-8ED4-623B4FE17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 need to be sure to get good notes on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680B-0255-4CF5-871E-E3CC2E963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E37D-EE3A-4FE2-9571-0D3940BF9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good notes on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67C4-EB34-4137-BB4A-8D8B208CA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9FD4-8DF3-4AFF-8E9C-2CF816DC2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B305-4ACC-4655-AA57-45F099E6A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ute prompt, creating a list, discu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2666-A0F2-420D-A2A9-29A3668AC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0B7D-8F3D-43FD-AA2E-4E0EA9126F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C1D0-97F1-4251-AAF2-69BF8A9DD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78C6-B5E0-42A4-B354-A52F58A2D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4453-5AA1-47A3-A60E-03EDBF361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1810-600A-4BEB-9564-E346EDD7D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A71C-DAD6-4961-83B9-CF608C3C8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67AA-117E-4F6B-B893-8622D9334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54D9-EB35-46C0-90BE-6A045F283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C8C7-AC7A-4B3F-8287-E56C39B51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B1AC-0E1B-434D-BD10-15420E43A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978C-F176-4FB1-A93E-5600863A9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822C-F3C2-418F-8666-FC8279F9A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F66B-AE8F-4D18-BC8C-62598740E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A92D-F4C3-44A1-93DE-44892215A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D938-C840-4B5B-B43C-C876633B1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118D-2B4F-481A-AC41-8399C3A12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9352-C48A-4485-B5B8-B8653F281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DF26-D4EB-440E-98E9-6492870E4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32BD-4B83-4DA2-A9E9-ED2E22B44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5914-2AB1-4397-9D11-5BE2A49D5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81BB-7092-44E3-8B5C-9A55F90A0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773F-0DFE-43A7-A59E-338F9BCCF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B1C3-D0B4-4E1C-AD34-7C268BF1D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AEEF-EDF8-419F-ACC2-AD1509232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83DA-A0DC-4062-8CB0-7BE839A75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3D89-AA4E-4151-845F-6175EE1B5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9BA3-9247-4CDD-ABA0-3624BC3D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008-F13D-4455-A129-F676BC72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675-5F87-4AB9-B4DD-2B790D1C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7C5F-50DC-4E75-8C81-B2B747AE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D71-7D53-45AC-830B-8B5FF22D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2FF8-E571-4B73-A49C-F8F1525D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BCC-5F5F-4EEF-9C3A-2961F2B4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02F9-76B8-46D1-B67E-64756521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34F-6BAD-480B-B5A2-00799BD1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BD2E-D794-4846-8980-88B219D5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CD6-9EEB-456C-8D88-439A2826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F0CF-E4A3-4F4E-9015-9844939B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1712-85A8-4CC9-9B5B-30816505F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ers/amkohnen/Dropbox/Missouri%20State/OWP/i3/Monett%20PD/2013.11.18/group%20characteristics%20of%20effective%20writing.docx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3 grant: College-Ready Writ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3040" y="3889440"/>
            <a:ext cx="639792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Session F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Monet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R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November 18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OWP Icon"/>
          <p:cNvPicPr/>
          <p:nvPr/>
        </p:nvPicPr>
        <p:blipFill>
          <a:blip r:embed="rId1"/>
          <a:stretch/>
        </p:blipFill>
        <p:spPr>
          <a:xfrm>
            <a:off x="3048120" y="762120"/>
            <a:ext cx="29462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we get start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9512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atulations to DeAnn Crawford and Colleen Appel on their accepted proposal for the Write to Learn conference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r Priz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OWP Icon"/>
          <p:cNvPicPr/>
          <p:nvPr/>
        </p:nvPicPr>
        <p:blipFill>
          <a:blip r:embed="rId1"/>
          <a:stretch/>
        </p:blipFill>
        <p:spPr>
          <a:xfrm>
            <a:off x="6400800" y="556272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inder: Rules of Free-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your hand moving until the time is 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no attention to grammar, spelling, punctuation, neatness, or sty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get off the topic or run out of ideas, keep writing any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time is up, look over what you've written, and mark passages that contain ideas or phrases that might be worth sharing or elaborating on l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OWP Icon"/>
          <p:cNvPicPr/>
          <p:nvPr/>
        </p:nvPicPr>
        <p:blipFill>
          <a:blip r:embed="rId1"/>
          <a:stretch/>
        </p:blipFill>
        <p:spPr>
          <a:xfrm>
            <a:off x="6400800" y="556272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OWP Icon"/>
          <p:cNvPicPr/>
          <p:nvPr/>
        </p:nvPicPr>
        <p:blipFill>
          <a:blip r:embed="rId1"/>
          <a:stretch/>
        </p:blipFill>
        <p:spPr>
          <a:xfrm>
            <a:off x="6756480" y="5799240"/>
            <a:ext cx="2408040" cy="1058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into the Da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isible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 new word document and set the font color to “wh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-wr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bout the physical conditions for your writing. Where do you write? When? What implements do you prefer? Do you need silence or do you have music 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uthent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52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000" spc="-1" strike="noStrike">
                <a:solidFill>
                  <a:srgbClr val="000000"/>
                </a:solidFill>
                <a:latin typeface="Arial"/>
              </a:rPr>
              <a:t>Read the chapter excerpt and mark passages using this coding strategy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squares with my thi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I wonder about th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new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OWP Icon"/>
          <p:cNvPicPr/>
          <p:nvPr/>
        </p:nvPicPr>
        <p:blipFill>
          <a:blip r:embed="rId1"/>
          <a:stretch/>
        </p:blipFill>
        <p:spPr>
          <a:xfrm>
            <a:off x="6400800" y="548640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90" name="Action Button: Custom 4"/>
          <p:cNvSpPr/>
          <p:nvPr/>
        </p:nvSpPr>
        <p:spPr>
          <a:xfrm>
            <a:off x="1600200" y="28195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Rectangle 6" descr=""/>
          <p:cNvPicPr/>
          <p:nvPr/>
        </p:nvPicPr>
        <p:blipFill>
          <a:blip r:embed="rId2"/>
          <a:stretch/>
        </p:blipFill>
        <p:spPr>
          <a:xfrm>
            <a:off x="1249200" y="3309840"/>
            <a:ext cx="1360800" cy="1567080"/>
          </a:xfrm>
          <a:prstGeom prst="rect">
            <a:avLst/>
          </a:prstGeom>
          <a:ln w="0">
            <a:noFill/>
          </a:ln>
        </p:spPr>
      </p:pic>
      <p:sp>
        <p:nvSpPr>
          <p:cNvPr id="92" name="Plus 7"/>
          <p:cNvSpPr/>
          <p:nvPr/>
        </p:nvSpPr>
        <p:spPr>
          <a:xfrm>
            <a:off x="1447920" y="4419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349667"/>
                </a:moveTo>
                <a:lnTo>
                  <a:pt x="349667" y="349667"/>
                </a:lnTo>
                <a:lnTo>
                  <a:pt x="349667" y="121204"/>
                </a:lnTo>
                <a:lnTo>
                  <a:pt x="564733" y="121204"/>
                </a:lnTo>
                <a:lnTo>
                  <a:pt x="564733" y="349667"/>
                </a:lnTo>
                <a:lnTo>
                  <a:pt x="793196" y="349667"/>
                </a:lnTo>
                <a:lnTo>
                  <a:pt x="793196" y="564733"/>
                </a:lnTo>
                <a:lnTo>
                  <a:pt x="564733" y="564733"/>
                </a:lnTo>
                <a:lnTo>
                  <a:pt x="564733" y="793196"/>
                </a:lnTo>
                <a:lnTo>
                  <a:pt x="349667" y="793196"/>
                </a:lnTo>
                <a:lnTo>
                  <a:pt x="349667" y="564733"/>
                </a:lnTo>
                <a:lnTo>
                  <a:pt x="121204" y="564733"/>
                </a:lnTo>
                <a:lnTo>
                  <a:pt x="121204" y="349667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Rectangle 8" descr=""/>
          <p:cNvPicPr/>
          <p:nvPr/>
        </p:nvPicPr>
        <p:blipFill>
          <a:blip r:embed="rId3"/>
          <a:stretch/>
        </p:blipFill>
        <p:spPr>
          <a:xfrm>
            <a:off x="1298520" y="5138640"/>
            <a:ext cx="115884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someone next to you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ontinue the discussion: what does “authenticity” mean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ould your curriculum or assignments become more “authentic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ular Callout 4"/>
          <p:cNvSpPr/>
          <p:nvPr/>
        </p:nvSpPr>
        <p:spPr>
          <a:xfrm>
            <a:off x="2362320" y="1600200"/>
            <a:ext cx="3047760" cy="24382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590920" y="190512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by sharing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 of the Day: Authent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verything in school can be “authentic”—but let’s let this concept linger in the background today as we think about assignments and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ing Working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ing for Consulta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moment to think about your curriculum for the rest of this semester or for second sem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might you incorporate something new/different/revised based on this professional develop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feedback would you like as you think through these 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ing for Consulta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 your ideas in the form of a “dilemm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1-2 questions for your group to cons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ultancy Protocol and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protocol to remember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keep time in your groups and adhere to the 15 mins/presenter time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move into some planning time from here and reconvene at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OWP Icon"/>
          <p:cNvPicPr/>
          <p:nvPr/>
        </p:nvPicPr>
        <p:blipFill>
          <a:blip r:embed="rId1"/>
          <a:stretch/>
        </p:blipFill>
        <p:spPr>
          <a:xfrm>
            <a:off x="6735600" y="578160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enjoy food and cof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gle and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issing from this l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: what words do you use that you would like to add to the list so others are using them the same w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Respect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iplinary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rds related to writing, research, or argumentation have very specific definitions in your field that you would like others to know ab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: what words on this list need specific disciplinary/content-area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storm: what words related to your discipline/content-area would you like to add to this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mpile these and put them on the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have a hard copy in beautiful laminated form at our nex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457200" y="137160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about Writing Assig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characteristics of an effective writ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WP’s Writing Assignment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group, examine the NWP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fferences do you notice between your own thinking and the NWP fra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there things the NWP Framework is mis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hese ideas to reflect on your own assignment/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etly read and revise your own writing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revise, consider incorporating ideas from the common language list into your assignment/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it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86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quietly thinking and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a small group to discuss ideas and plan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one of the facilitators for individual discussion/consul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me together for morning closure at 12: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ning Closure: L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457200" y="9907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457200" y="990720"/>
            <a:ext cx="82296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reconvene at 1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uate Students: Please complete a course evaluation form before 1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-da-bing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your feet 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you saw (heard, touch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at you 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th?id=H"/>
          <p:cNvPicPr/>
          <p:nvPr/>
        </p:nvPicPr>
        <p:blipFill>
          <a:blip r:embed="rId1"/>
          <a:stretch/>
        </p:blipFill>
        <p:spPr>
          <a:xfrm>
            <a:off x="6019920" y="1523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th?id=H"/>
          <p:cNvPicPr/>
          <p:nvPr/>
        </p:nvPicPr>
        <p:blipFill>
          <a:blip r:embed="rId2"/>
          <a:stretch/>
        </p:blipFill>
        <p:spPr>
          <a:xfrm>
            <a:off x="6934320" y="27432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th?id=H"/>
          <p:cNvPicPr/>
          <p:nvPr/>
        </p:nvPicPr>
        <p:blipFill>
          <a:blip r:embed="rId3"/>
          <a:stretch/>
        </p:blipFill>
        <p:spPr>
          <a:xfrm>
            <a:off x="6095880" y="4114800"/>
            <a:ext cx="1447920" cy="1274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OWP Icon"/>
          <p:cNvPicPr/>
          <p:nvPr/>
        </p:nvPicPr>
        <p:blipFill>
          <a:blip r:embed="rId4"/>
          <a:stretch/>
        </p:blipFill>
        <p:spPr>
          <a:xfrm>
            <a:off x="673560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ftern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tter Answers Game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ed by Colleen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ur next session, please bring samples of student work from this semester. These should be samples of work that makes you wonder—because it is really good, really off-target, really puzzling, really different, really challenging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ssible, also bring in the assignment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430200" y="1219320"/>
            <a:ext cx="8408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consent fo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or Lesson Sign 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Learn 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Priz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430200" y="1219320"/>
            <a:ext cx="8408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ession: Jan 20, 1:00-3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430200" y="1219320"/>
            <a:ext cx="8408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ding to your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57200" y="129528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you lik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rete strategies to use in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 to plan and talk with collea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ing of the day (mos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r sugg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does not happen over lunc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activities were too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OWP Icon"/>
          <p:cNvPicPr/>
          <p:nvPr/>
        </p:nvPicPr>
        <p:blipFill>
          <a:blip r:embed="rId1"/>
          <a:stretch/>
        </p:blipFill>
        <p:spPr>
          <a:xfrm>
            <a:off x="6756480" y="5799240"/>
            <a:ext cx="240804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ink about where you want to go next with writing in your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ork on developing a common vocabulary around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vise a writing assignment/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ink about the role of smaller writing pro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ink about the word of the day: authen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OWP Icon"/>
          <p:cNvPicPr/>
          <p:nvPr/>
        </p:nvPicPr>
        <p:blipFill>
          <a:blip r:embed="rId1"/>
          <a:stretch/>
        </p:blipFill>
        <p:spPr>
          <a:xfrm>
            <a:off x="6735600" y="578160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457200" y="685800"/>
            <a:ext cx="8153280" cy="64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 will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the day with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and discuss an article about authent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through a consultancy protocol to talk about curriculum and spend some time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gle and Trade with writing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 framework for discussing writing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 The Better Answers Game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OWP Icon"/>
          <p:cNvPicPr/>
          <p:nvPr/>
        </p:nvPicPr>
        <p:blipFill>
          <a:blip r:embed="rId1"/>
          <a:stretch/>
        </p:blipFill>
        <p:spPr>
          <a:xfrm>
            <a:off x="6724800" y="5799240"/>
            <a:ext cx="240804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/Non-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685800" y="1676520"/>
            <a:ext cx="82296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o think about embedding well-constructed writing assignments into our curriculum in large and small ways; to continue to develop our shared sense of purpose and comm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on-Purpos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ompletely finalize a writing assignment; to ignore differences in our content area approaches to wri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OWP Icon"/>
          <p:cNvPicPr/>
          <p:nvPr/>
        </p:nvPicPr>
        <p:blipFill>
          <a:blip r:embed="rId1"/>
          <a:stretch/>
        </p:blipFill>
        <p:spPr>
          <a:xfrm>
            <a:off x="6724800" y="5773680"/>
            <a:ext cx="240804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th?id=H"/>
          <p:cNvPicPr/>
          <p:nvPr/>
        </p:nvPicPr>
        <p:blipFill>
          <a:blip r:embed="rId1"/>
          <a:stretch/>
        </p:blipFill>
        <p:spPr>
          <a:xfrm>
            <a:off x="5562720" y="457200"/>
            <a:ext cx="2971800" cy="2239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04920" y="175248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your name to the sign-in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ease set cell phones to vib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el comfortable stepping outside when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king Lot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your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OWP Icon"/>
          <p:cNvPicPr/>
          <p:nvPr/>
        </p:nvPicPr>
        <p:blipFill>
          <a:blip r:embed="rId2"/>
          <a:stretch/>
        </p:blipFill>
        <p:spPr>
          <a:xfrm>
            <a:off x="6400800" y="556272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N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tart and end o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hare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abide by the protoc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be enthusiastic about new writing strate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hare ideas and collaborate with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provide a safe environment for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encourage one another and respectfully acknowledge each other'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OWP Icon"/>
          <p:cNvPicPr/>
          <p:nvPr/>
        </p:nvPicPr>
        <p:blipFill>
          <a:blip r:embed="rId1"/>
          <a:stretch/>
        </p:blipFill>
        <p:spPr>
          <a:xfrm>
            <a:off x="6400800" y="556272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6T20:18:10Z</dcterms:created>
  <dc:creator>Colleen</dc:creator>
  <dc:description/>
  <dc:language>en-US</dc:language>
  <cp:lastModifiedBy>andrew</cp:lastModifiedBy>
  <cp:lastPrinted>2013-10-18T10:33:29Z</cp:lastPrinted>
  <dcterms:modified xsi:type="dcterms:W3CDTF">2013-11-17T18:56:23Z</dcterms:modified>
  <cp:revision>179</cp:revision>
  <dc:subject/>
  <dc:title>i3 grant: College-Ready Writers</dc:title>
</cp:coreProperties>
</file>